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DD7-A4AC-44F0-8315-5E6599EB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D8E7-F430-4F5E-8AD7-80E0B326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BA60-42AF-49ED-8E9C-6BE2CFB4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1C57-3614-4CBF-BC0C-242536FE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1DFB-3979-4B0C-BB9A-16F2DC67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FC3-2A38-4C38-8305-960084BE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716-86DF-410E-8D9D-42D0165E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94D5-950F-4A86-9325-938B8D04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0E6-D707-4B93-A2DF-8000D5A2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1BAF-CC3B-4E43-AAB6-1B778412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BE6-178D-4A09-854F-D3485BB8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0DE-1988-4118-8771-F233BCB3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67FC-FD00-4975-AC05-763EB952F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600200" y="18288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"/>
              </a:rPr>
              <a:t>Ancient Gree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3710520" y="320040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By: rj mi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 City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:\Documents and Settings\islpt405\My Documents\My Pictures\polis.bmp"/>
          <p:cNvPicPr/>
          <p:nvPr/>
        </p:nvPicPr>
        <p:blipFill>
          <a:blip r:embed="rId1"/>
          <a:stretch/>
        </p:blipFill>
        <p:spPr>
          <a:xfrm>
            <a:off x="1066680" y="2805120"/>
            <a:ext cx="6553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Documents and Settings\islpt405\My Documents\My Pictures\philosophy.bmp"/>
          <p:cNvPicPr/>
          <p:nvPr/>
        </p:nvPicPr>
        <p:blipFill>
          <a:blip r:embed="rId1"/>
          <a:stretch/>
        </p:blipFill>
        <p:spPr>
          <a:xfrm>
            <a:off x="1066680" y="297180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Documents and Settings\islpt405\My Documents\My Pictures\pensispula.bmp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Athens and Spar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C:\Documents and Settings\islpt405\My Documents\My Pictures\war.bmp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1676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C:\Documents and Settings\islpt405\My Documents\My Pictures\oligarchy.bmp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a coast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C:\Documents and Settings\islpt405\My Documents\My Pictures\harbor.bmp"/>
          <p:cNvPicPr/>
          <p:nvPr/>
        </p:nvPicPr>
        <p:blipFill>
          <a:blip r:embed="rId1"/>
          <a:stretch/>
        </p:blipFill>
        <p:spPr>
          <a:xfrm>
            <a:off x="380880" y="2971800"/>
            <a:ext cx="8001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038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5334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ontent Placeholder 4"/>
          <p:cNvSpPr/>
          <p:nvPr/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cuments and Settings\islpt405\My Documents\My Pictures\ACROPOLIS.bmp"/>
          <p:cNvPicPr/>
          <p:nvPr/>
        </p:nvPicPr>
        <p:blipFill>
          <a:blip r:embed="rId1"/>
          <a:stretch/>
        </p:blipFill>
        <p:spPr>
          <a:xfrm>
            <a:off x="1905120" y="1295280"/>
            <a:ext cx="4800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ce where Greeks and conduct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C:\Documents and Settings\islpt405\My Documents\My Pictures\agora.bmp"/>
          <p:cNvPicPr/>
          <p:nvPr/>
        </p:nvPicPr>
        <p:blipFill>
          <a:blip r:embed="rId1"/>
          <a:stretch/>
        </p:blipFill>
        <p:spPr>
          <a:xfrm>
            <a:off x="0" y="2505240"/>
            <a:ext cx="91440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C:\Documents and Settings\islpt405\My Documents\My Pictures\assembly.bmp"/>
          <p:cNvPicPr/>
          <p:nvPr/>
        </p:nvPicPr>
        <p:blipFill>
          <a:blip r:embed="rId1"/>
          <a:stretch/>
        </p:blipFill>
        <p:spPr>
          <a:xfrm>
            <a:off x="1523880" y="3429000"/>
            <a:ext cx="5334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C:\Documents and Settings\islpt405\My Documents\My Pictures\citizen.bmp"/>
          <p:cNvPicPr/>
          <p:nvPr/>
        </p:nvPicPr>
        <p:blipFill>
          <a:blip r:embed="rId1"/>
          <a:stretch/>
        </p:blipFill>
        <p:spPr>
          <a:xfrm>
            <a:off x="1447920" y="3429000"/>
            <a:ext cx="5486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Documents and Settings\islpt405\My Documents\My Pictures\colony.bmp"/>
          <p:cNvPicPr/>
          <p:nvPr/>
        </p:nvPicPr>
        <p:blipFill>
          <a:blip r:embed="rId1"/>
          <a:stretch/>
        </p:blipFill>
        <p:spPr>
          <a:xfrm>
            <a:off x="1295280" y="3200400"/>
            <a:ext cx="6096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Documents and Settings\islpt405\My Documents\My Pictures\democracy.bmp"/>
          <p:cNvPicPr/>
          <p:nvPr/>
        </p:nvPicPr>
        <p:blipFill>
          <a:blip r:embed="rId1"/>
          <a:stretch/>
        </p:blipFill>
        <p:spPr>
          <a:xfrm>
            <a:off x="1523880" y="3124080"/>
            <a:ext cx="6248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C:\Documents and Settings\islpt405\My Documents\My Pictures\jury.bmp"/>
          <p:cNvPicPr/>
          <p:nvPr/>
        </p:nvPicPr>
        <p:blipFill>
          <a:blip r:embed="rId1"/>
          <a:stretch/>
        </p:blipFill>
        <p:spPr>
          <a:xfrm>
            <a:off x="1905120" y="2895480"/>
            <a:ext cx="4800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C:\Documents and Settings\islpt405\My Documents\My Pictures\moarchy.bmp"/>
          <p:cNvPicPr/>
          <p:nvPr/>
        </p:nvPicPr>
        <p:blipFill>
          <a:blip r:embed="rId1"/>
          <a:stretch/>
        </p:blipFill>
        <p:spPr>
          <a:xfrm>
            <a:off x="1066680" y="2819520"/>
            <a:ext cx="69343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21:00:23Z</dcterms:created>
  <dc:creator>poweruser</dc:creator>
  <dc:description/>
  <dc:language>en-US</dc:language>
  <cp:lastModifiedBy>poweruser</cp:lastModifiedBy>
  <dcterms:modified xsi:type="dcterms:W3CDTF">2012-03-02T20:23:54Z</dcterms:modified>
  <cp:revision>9</cp:revision>
  <dc:subject/>
  <dc:title>Acropolis</dc:title>
</cp:coreProperties>
</file>